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5B60-CE06-4D70-98AB-D3FB5157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1A4B-96EB-473A-8D57-07F2ABB2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34440-5AD4-4AA6-A844-9149E39E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A7DA8-0C82-4C97-8EB9-4FD231CD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4DA53-13FD-4FD3-AD5B-7AF5CBE4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02814-8121-4ABE-9D7D-EE3DCBAB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34CC8-2427-4043-AD47-DAD6EF77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DFADB-700D-444A-A5A9-17F69798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779FF-8322-4081-BBB8-D67CFBB6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9C03D-1065-4E79-A766-02B119F7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EF897-1D83-4365-A49A-A1654515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C914C-1DF9-4452-97DC-8E9CA806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15F5-613E-4FB4-B4E7-ABFD4702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C5745-430C-4B2C-885F-C4B834CB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0CE6D-37BF-4722-8B22-BA703017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CCA29-C74B-48D3-BA47-E7FCA7B4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6FFFA-A19E-48C5-BE74-4F47BB60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4609C-C8E5-4D54-9B08-70CA97BE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382C7-EA28-444C-B077-CBD78A53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65AF3-FE4F-4D43-B7C6-A9E2F171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9BEC7-26F5-4887-BF96-4DB8C35E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58CFD-A102-40FB-B8E3-2C841946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A178B-99A9-4063-9F00-D987DCEF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BE55-4167-4568-A375-FCB1960F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0F41A-6FBF-47DE-BBBC-7ACE055F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A4AEF7-8EF5-4386-A7F3-F4B169A9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CEB55F-130F-4858-BE80-E5EF7064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A19915-D1BC-4391-BD28-1557C4EC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BEA4FC-2B98-4214-8D02-5DFFB5F8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D265B1-DFB5-4FC9-BA93-5B858558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E9904A-A814-4CC1-BE3E-DAFC5FFB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F6848E-15E7-416D-9B8B-A356565F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39F29D-1084-45AF-8B4C-ECF8E0FD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D379DC-8FC6-4543-8DDE-CB23F8AA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FCE8-0E0F-4260-BDF7-05350F93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3AFC78-88C2-4FB9-8CD9-29AB8813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ECBC30-5878-4028-973A-E488C2B7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85D389-AEC9-47AC-99EB-A050333E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CFF25-ED84-4A80-800B-F7514A55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E5B65-DF32-4824-B449-4BD82A98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14D49-182B-4703-B955-DF8303F7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BC483-1881-44A5-A04A-12A5DD6D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D75C5-A837-4470-B012-E977F222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7DDD8-B52A-4135-A7A9-663BFF6F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6A07F-BFE1-4499-B5E8-EC88EAC6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8D03-E6C1-4BE9-AFD5-024271BE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4DF06-CC9D-42BC-838B-0089E86A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0DFC8-8E0F-4455-B359-89E1ABC8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53ABB-B79F-4EA2-B1E0-F6719101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9931E-5C47-42D1-9B47-3BE0E68A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A5535-0ADB-4666-A352-64115D50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DE1AB-8C94-46E8-A2E6-31A7D127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74A7C6-61FA-4E4F-A8D4-43E41840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19824-6794-4398-872F-06780E66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05626-A10A-4B5E-9D8E-ECDD4875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C745E4-D9FF-450E-A801-CEED442E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F795-97E4-4AF2-A988-4F06C8BF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64CED-D67B-4C6D-9589-2892A616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1D0B3-B71E-452D-9B42-F933D50A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1ACF9-EE90-4499-989E-3F72B249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E8A6E3-F3C4-4725-8C2C-89E93FE4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872E97-7BA7-46CC-849B-0A288F17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A76C4-C84C-4627-A123-00ADC61F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25EAF-9213-4E51-A846-A7119341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7950-2680-47B0-9505-F751034E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6C5B-A427-415A-AFC4-11E283CD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3C28-8E36-4D10-84D9-0D84D661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3FF1-5D03-43E6-9DEF-6642E00B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08F-60C3-4A77-AABA-D29F1866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ACBB-C154-4EEA-835D-046E2372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15F2-6F3F-4D2C-BE54-388776E0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5B32-9B7D-40BB-9CF5-108018CD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2B29-98C0-47E1-8D42-D2235EF0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9E43-87D3-4C0C-8495-E7BD4D7E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0062D-1877-4142-9009-13EB47EE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FE8EB-9E58-43F8-A9BB-1B4B5C0F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0CE16-3596-460B-9F92-8814D56A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13A11-F69A-4705-8746-FB0ED1F3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FC138-8E61-403E-B831-5DFB5967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06A-5303-4B1F-9993-9CA763B5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4DF0D-F2A4-4394-B2E9-836EE880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45088-BECF-4CE0-93EA-21C549A1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03B98-9885-4845-96F8-E132B438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47F14-6033-42AC-827F-7563715D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E2162-CD02-4B8B-AC2E-0D651556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22D18-F0D9-4B31-95FA-BA483176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5DBDE-8D44-475D-B90F-A6B51629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84766-A7AB-44C9-9FD9-E61440DC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59B4E-3121-474D-95DE-B7134CCB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EF421-7ECD-4DEB-976E-F9132B5B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B71C-3878-43E4-B1C2-7CBE121A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B63E9-32BC-4057-AE33-03918ADA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348EC-EE2A-40B7-A345-4804B488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9F605-07BE-4DE9-9A9D-3DE4BA5D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183FF-49B3-4569-A81E-31427C83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AC6DA-1E2B-4962-8728-A83D1DFB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2F4AF-02DF-472C-9EBD-3E8DBCAB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614BA-32E1-439F-A506-F7FB95FF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58226-68EE-4380-9C8C-D2C95BFC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C0928-FE92-4804-A079-7964FD21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73B22-7818-4D1C-9F3E-707B1AA3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428-70AB-4FA8-9C24-103D1BA0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2011F-5737-44B9-BCE5-2179516F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AABB0-20DB-49B6-8311-1AB40487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E9CC6-60AC-4B9F-8233-46600C69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DFA5B-9FB9-4665-80E9-6FF20C43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7DB48-4AE8-4A0B-9125-59A395D2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08928-27E8-4EE1-8215-6B2A0F83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CFC60-6828-48A8-90FE-DE21A5E9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94555-E19A-4EFE-869B-C8B5B1B9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65202-FE34-4463-B335-B2DB6F89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24C4C-4084-412C-8A61-FDC585AD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591-848A-439F-B31D-F117E453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43C88-E150-4479-A34A-23A38839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51F18-4B3F-4430-91BB-D5068323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D306A-40D5-4EA3-90CC-2BE9856C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EEC8D-7B4D-45FF-9ED0-90678CC5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133D1-5A01-47D7-ABCB-BAB368A1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21830-E1CA-4A1E-B6F8-1B2D1D23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9211A-BFEA-4664-83A9-1826203C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45448-6B0C-44F7-8B73-B3644B07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51D9A-CD91-4BDB-8C87-F62AFC4A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6E4AF-0E50-484B-B050-D9B13629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C86A-EFA3-4FC8-A9A6-B6A50A60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0FBBF-448C-4B2C-93FC-28406E7B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0F4C7-209D-4FC4-B129-0F6BED96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CB066-7663-403A-8D8F-4BBF31DB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C51A0-883F-4CC9-BA36-FB272FBB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CC271-0D2E-433B-99BB-4F46EC92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F2B31-1E9B-43E7-9E33-E30EEE42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9F3A5-EB04-41C9-8CEF-6542B2BA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E0C92-340E-4508-9E2F-6C5DEBB8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8793C-DB21-49F4-AF8C-E04D848A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32A04-2D6C-4A5C-899C-E1730953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891-7B3D-4300-89D4-8D022933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89CC9-618A-4DB6-94A9-AA9BE1B3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91D95-EA5D-4221-8B9C-82C855F8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5B784-23B1-45AB-AA1F-13939CF9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89358-67EB-482D-8F12-11C2BC43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C61C7-54B4-4132-AAAC-FF1F4DEF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6C9F3-51C7-4CE3-B40B-5618720D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3F207-28C7-4246-AB87-C089FACF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0C2FA-E077-4451-AEE8-40D55DC1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E657D-FA0A-4D2E-A30A-799BCE07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0F8B9-5F69-455E-89F1-B6D081CB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0AA4-9385-493B-B82C-9D3C4283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13573-4C79-40FF-BFF8-C1B95354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4DF14-15C5-4482-9B67-20444B3B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F9EF6-F9E9-4C38-B1A4-0D74866E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5D5EA-66DE-48D0-AB7B-D16541F9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692A9-9E51-43C5-908F-3A935159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61973-842E-4D5C-9A94-D898C33C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3C593-C3D5-4184-BDD6-AA07E7F6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101BE-AC34-4AA1-921B-432CFD8C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69431-6977-488B-9F79-B4FA32C3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88EF8-1E8A-42E2-B507-AC5610EA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085A-228A-4D7A-BD14-D049F1B27A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424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45AE-EB6B-466E-B191-B47980EC7B41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471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2E34-7FD8-4115-961C-3BA05D7BBD72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520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CC48-0704-48A2-BC0D-5382877E00EC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B835-DD8A-41C6-885C-31D768F6E359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E93F-39CF-4635-BEB4-40F4D5A02384}" type="slidenum">
              <a:rPr b="0" lang="ru-RU" sz="1200" spc="-1" strike="noStrike">
                <a:solidFill>
                  <a:srgbClr val="564b3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48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91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94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C7D1-58B2-42FC-AF20-F8DCEAB1CABF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14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6D9C-EFAF-49D0-A212-3697CEFDAECC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91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9ED9-EDC0-41F6-A4C8-36D19FA9188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240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6435-9570-4578-A9A2-DE7B45E4C78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28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49D6-1FE8-455B-BCCE-9087CE91CC0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4E64-B7CA-46B2-AAF3-355C9533F913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46C5-E064-4099-A4FD-94AC17A19FC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712800" y="573120"/>
            <a:ext cx="3262320" cy="4638600"/>
          </a:xfrm>
          <a:prstGeom prst="rect">
            <a:avLst/>
          </a:prstGeom>
          <a:ln w="0">
            <a:noFill/>
          </a:ln>
        </p:spPr>
      </p:pic>
      <p:sp>
        <p:nvSpPr>
          <p:cNvPr id="608" name="Прямоугольник 3"/>
          <p:cNvSpPr/>
          <p:nvPr/>
        </p:nvSpPr>
        <p:spPr>
          <a:xfrm>
            <a:off x="4143240" y="642960"/>
            <a:ext cx="45720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  <a:ea typeface="Arial"/>
              </a:rPr>
              <a:t>Фея Фл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гиня цветов и весны. С приходом весны властвовала над всеми живыми существами. Имя образовано от flos ("цветок"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легенде, рассказанной Овидием, в Флору, грудь которой источала цветы, распространявшиеся по окрестностям, превратилась земляная нимфа Хлорида, преследуемая богом западного ветра Фавоние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нашем Зимнем саду Фея Флора заботится и охраняет все цветы и растения. Она дарит им жизнь и крас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ея Флора добрая и очень любит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4"/>
          <p:cNvSpPr/>
          <p:nvPr/>
        </p:nvSpPr>
        <p:spPr>
          <a:xfrm>
            <a:off x="857160" y="52862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а с удовольствием рассказывает удивительные истории про цветы, загадывает загадки и дарит подарки всем де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G:\Зимний сад\фон\a872d9f27776.png"/>
          <p:cNvPicPr/>
          <p:nvPr/>
        </p:nvPicPr>
        <p:blipFill>
          <a:blip r:embed="rId1"/>
          <a:stretch/>
        </p:blipFill>
        <p:spPr>
          <a:xfrm>
            <a:off x="114480" y="428760"/>
            <a:ext cx="8913600" cy="600048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аспорта 5 природных объектов простран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31510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Хлорофиту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928680" y="428760"/>
            <a:ext cx="50403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6009"/>
                </a:solidFill>
                <a:latin typeface="Arial"/>
              </a:rPr>
              <a:t>Родина – Южная Афр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Температура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Умеренная, зимой не ниже 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Освещение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Яркий рассеянный св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олив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бильный с весны до осени, умеренный зи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Влажность воздуха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Летом листья полезно опрыски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0" descr="click?url=http%3A%2F%2Fs"/>
          <p:cNvPicPr/>
          <p:nvPr/>
        </p:nvPicPr>
        <p:blipFill>
          <a:blip r:embed="rId1"/>
          <a:stretch/>
        </p:blipFill>
        <p:spPr>
          <a:xfrm>
            <a:off x="587520" y="1500120"/>
            <a:ext cx="2895480" cy="422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лю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714480" y="71388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96009"/>
                </a:solidFill>
                <a:latin typeface="Arial"/>
              </a:rPr>
              <a:t>Родина – Южная Европа, Северная Африк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Температура: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Ниже умеренной, но не морозна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Освещение: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Яркий свет зимой, летом следует защищать от прямых солнечных луче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Полив: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Обильный летом, зимой умеренны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Влажность воздуха: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Летом требует более частого опрыскивани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8" descr="click?url=http%3A%2F%2Fwww"/>
          <p:cNvPicPr/>
          <p:nvPr/>
        </p:nvPicPr>
        <p:blipFill>
          <a:blip r:embed="rId1"/>
          <a:stretch/>
        </p:blipFill>
        <p:spPr>
          <a:xfrm>
            <a:off x="571680" y="1643040"/>
            <a:ext cx="2714400" cy="4500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Бальзамин, Ванька мокр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96009"/>
                </a:solidFill>
                <a:latin typeface="Arial"/>
              </a:rPr>
              <a:t>Родина – тропические регионы Восточной Аф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мператур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меренная, зимой не ниже 1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; для цветения зимой температура должна быть не ниже 1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вещение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ние светолюбиво, но летом от прямых солнечных лучей его следует оберег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лив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ильный; летом поливают ежедневно, зимой полив уменьш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лажность воздуха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ья следует опрыскивать, избегая попадания воды на цв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7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2857680" cy="39290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35002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Традескан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071960" y="499680"/>
            <a:ext cx="48578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6009"/>
                </a:solidFill>
                <a:latin typeface="Arial"/>
              </a:rPr>
              <a:t>Родина – Брази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Температура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Умеренная, зимой не ниже 8-1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Освещение: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тение светолюбив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олив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бильный с весны до осени, зимой умеренны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Влажность воздуха: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стья следует иногда опрыски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9" descr="click?url=http%3A%2F%2Fwww"/>
          <p:cNvPicPr/>
          <p:nvPr/>
        </p:nvPicPr>
        <p:blipFill>
          <a:blip r:embed="rId1"/>
          <a:stretch/>
        </p:blipFill>
        <p:spPr>
          <a:xfrm>
            <a:off x="571680" y="1571760"/>
            <a:ext cx="2928600" cy="45003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300816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Жасм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000680" y="428760"/>
            <a:ext cx="482904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96009"/>
                </a:solidFill>
                <a:latin typeface="Arial"/>
              </a:rPr>
              <a:t>Родина – Аравия, Инди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Температура: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Зимой содержат при температуре 16-1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Освещение: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растение светолюбиво, но прямых солнечных лучей следует избега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Полив: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Только мягкой водой. Летом почву держат постоянно влажно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Влажность воздуха: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Летом растение часто опрыскивают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7" descr="click?url=http%3A%2F%2Fflamber"/>
          <p:cNvPicPr/>
          <p:nvPr/>
        </p:nvPicPr>
        <p:blipFill>
          <a:blip r:embed="rId1"/>
          <a:stretch/>
        </p:blipFill>
        <p:spPr>
          <a:xfrm>
            <a:off x="357120" y="1857240"/>
            <a:ext cx="3357720" cy="435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Благодарим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2" descr="G:\Анимашки\анимашки\mpositive11.jpg"/>
          <p:cNvPicPr/>
          <p:nvPr/>
        </p:nvPicPr>
        <p:blipFill>
          <a:blip r:embed="rId1"/>
          <a:stretch/>
        </p:blipFill>
        <p:spPr>
          <a:xfrm>
            <a:off x="2500200" y="1643040"/>
            <a:ext cx="4000680" cy="47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06-10T11:04:5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